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603-8F8A-4D89-9210-DE19B5F1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6BB-A249-4381-A609-59F68658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A90-838F-4894-B404-7AE26811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AD0-0E32-4A8E-BCCD-C79AE704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E65-809F-4279-8BB5-4A9D3E9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1D0-B51B-4311-B73E-E58844A6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E89-B320-4160-AAD0-75CA2BB2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BB6-74F8-4E5B-9E2B-4FBCD8F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B18-2C02-442A-8C5E-4C9CB006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3E2-6F26-4F98-9423-F34EF80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F51-EA6D-4552-B916-492940A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AD4-4AB4-4A8A-87DF-10DE93A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423F-BB1E-4A4B-9F74-4D986C9CF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470320" y="2320920"/>
            <a:ext cx="3495600" cy="32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0" y="29988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¿Qué tiempo hace en España en verano?</a:t>
            </a:r>
            <a:r>
              <a:rPr b="1" lang="en-GB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Neil Jones\My Documents\A Level Spanish\Salud\Calor\prensaCalor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8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31640" y="390600"/>
            <a:ext cx="4846680" cy="522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44600" y="0"/>
            <a:ext cx="5470560" cy="602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1720" y="262080"/>
            <a:ext cx="5099040" cy="572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17600" y="361800"/>
            <a:ext cx="5072040" cy="519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6041880" y="5262480"/>
            <a:ext cx="28022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8:36:19Z</dcterms:created>
  <dc:creator>Owner1</dc:creator>
  <dc:description/>
  <dc:language>en-US</dc:language>
  <cp:lastModifiedBy>Owner1</cp:lastModifiedBy>
  <dcterms:modified xsi:type="dcterms:W3CDTF">2008-12-02T08:41:53Z</dcterms:modified>
  <cp:revision>1</cp:revision>
  <dc:subject/>
  <dc:title>Slide 1</dc:title>
</cp:coreProperties>
</file>